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161F-9B71-4733-9BCC-ACF41D40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62B-C521-4867-BBF8-F3A55070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BCE4A-7F0D-49B2-83FF-32CB012F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6479DB-0836-4A97-93F1-4BB58BC8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B195E-E82B-4175-8F3B-7D05C9C0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FCDB5D-4ADB-497B-85A7-44732B90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C8F5C-4B96-4D6B-88BA-0C3F16D9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0F35A5-1B3E-4DAA-965A-E49E1D90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68C34D-3601-47AF-A676-C42301B6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501716-C03C-4BD2-8689-3E8FF8F8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615F9-FE90-46B3-AA0E-5D706A14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014F5-776D-42AC-828B-C84CD4D5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E499-E86E-4FC6-B32D-F109701A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008F2-ADBE-41EB-B41E-927CB216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767AA8-FD78-4766-8EF1-0BB51D56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3791F0-3455-4572-BDA1-1FEC52EA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1F82A-F5B6-4DB8-8EB6-66EFD3B9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7D61CC-223B-4325-AE0E-13FDC5AC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4CB50-86BE-4BC1-BEC0-584A56FC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4CFF61-1F09-4EE3-BB63-725BC144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746CE5-BECA-4EB7-9297-526FFEF4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F56B6-1D52-4745-87A3-FA4F4449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B48CFB-4AB6-49B1-89A7-4EA1D5EC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3E97-3A8D-49EC-8274-DF3DF1C6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A5390-B07E-4294-BD8C-9D72BBCE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E9783A-E3E5-48DA-BB90-51150E7B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936DCA-816C-4687-BF9A-24A9D519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84900E-5941-4343-9E04-2A893F99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65A378-B584-4298-B593-60D1D6DC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8D05C7-667C-4ED6-9CCC-6C76F73B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E92563-A69E-4178-AB24-C27E3401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975F27-5E48-498D-B265-A072F1CD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417279-117B-4975-89AC-CD785CBE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EC61DF-D695-4DBA-84D6-05027D86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164D-20F0-4209-92AD-66F2784F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9E4759-9862-4C65-BF84-652FD212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947959-48B8-4B23-BE7A-1304099F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EB103E-3CBF-4113-8BBB-8889BE9B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82F3-786B-43EA-8068-EFFF1B1E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13FA-4F5E-4590-978F-08E6E833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3B3A-D90D-48F5-AFE4-C23CE21B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CA72-CE94-4FE0-A324-80BBCAA5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76C8-2749-425B-9CA3-AE05B051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5626-7486-4F2A-9FA7-002EFC54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517-C244-4B95-B122-B6121644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C1F9-C668-4CB0-9A9A-91EFB3BD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19A9-01FF-4327-A20E-0DF53490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C1AF-2A12-4768-85E0-E602B846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AA4B-7A26-41D5-88EC-D5B81C6F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3813-A981-4353-A947-928F8808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6428E-4EAB-448F-897F-938540EF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DAB71-8F43-42B8-9255-7A2E99F9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E5D5B-1E7E-4A68-A025-56A480FF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27816-8208-49EF-8708-240486D0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1EFC-C5D5-439E-82C4-15EEDD5D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728A-323A-489F-BF84-C46271C9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46171-2B5E-4A64-8636-93A41CF3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13EF6-97CA-44F7-AF11-D9639695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581DE-FA3A-47D8-9971-25353799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CA52F-E1CF-4BC3-BCAE-BBE35926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85B76-3CBE-4FBC-BB04-F3DAED0B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BA919-6BE3-4C10-94F7-D3DD7D0B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E3843-D60D-4DCC-994B-B3AD5AE5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59875-71A7-413F-ADEC-A0B0D374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DF20B-F656-404D-BDC9-E656E095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ADD97-B583-405F-A83D-BF71B203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A45-E22E-46C0-86A3-8F076B46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BEA3A-34AA-4090-9124-147629A6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0E108-5307-4A9C-946D-74E991C8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B5988-EA35-4CDD-B7AC-00B57CAF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B378A-6C1D-4A10-9C25-2FC524D0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ED563-1943-447A-9AFC-0C84DDE3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DBE5E-B486-418C-9CBF-8C968352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2A55A-0B90-4818-AAA3-20ABF5A2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C834A-1CFC-4920-9526-141D536B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81BA2-0E5F-4848-84EC-0C8D4707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70FA8-EF6B-485D-9DDF-03EDA5B1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EDB6-E264-4648-8132-D13B314D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D4889-5E05-4217-94AE-23AAC761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5FA8B-5F0A-42CA-84EF-3D296565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BC1A2-629F-4B6C-8E2F-AC20CEBB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8FA50-3E9D-40D4-9A19-6EF5CFBA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6658D-3CB1-4526-A299-E0F08BB5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6090C-DECF-4F40-A163-4115B48F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9969F-810B-4B17-8084-88E81173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FF6F0-4A3C-4BC4-9109-2660DEB7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2C214-436C-41D3-A9A5-3B182745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3D9BD-E1DE-47BE-8940-CBFACEF9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F7A-0133-4A29-A302-C5C0E4B0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7FADB-61C7-44FB-9ABF-2A73858A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34F21-BBDB-4B12-9A6E-B574F320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20287-271E-428A-8914-309866D2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BD418-42F2-4C68-A8F7-CC383525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30235-6220-425E-8935-B4AD39EC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1BCA0-08E8-4407-A3B3-5908C35E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4BA06-FC94-40A1-B544-9A0E6EE7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CA0D0-AFB5-4A3F-B356-184B5386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11171-5FAF-4D28-880F-22FEEE11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B19A3-AFE9-4DD0-A1C4-B0C13E17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1A2-C2E0-44A3-8181-F4547D50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D5B5B-408F-436D-A449-F874051E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E1C0A-5F68-415C-8B7D-A75A8F2A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449D1-C980-45E6-9B8A-8F1FF569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CFED2-DC92-436C-88D6-249DAB2F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98DB1-6966-4514-A91E-1955722F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71407-EC90-4F42-98C7-5934553E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38407-842A-40EE-ADA6-CF968069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584FA-D0B8-4C5D-97B3-3FAA6B59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C7AAC-ACB4-4B38-9221-110A2536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FB0BA-BF71-4C93-B8E9-5A6136C4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5053-33AA-4B58-A5DF-761EAF5A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93FDA-D994-44CF-87E9-678E33A5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AC1F3-4548-4994-93C5-9B738848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69739-A231-49B7-A94F-23B95797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A7EC5-B705-49C8-817A-8C817074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EFC60-2B72-46B5-B730-87880E7A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FA3EF-40E2-4247-8287-937FF710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4B194-3019-462A-B9CB-B14C2301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09E96-A40F-4C8C-A397-8DA1EEC4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E2880-6BB0-4B66-82FC-12A28DD6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27045-D2D0-4FE9-85A3-D76B2D68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F43-4DBA-4114-8B66-270F3759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EF359-A86E-46B4-B98C-297B4429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72E17-9F27-4DD6-B92E-7DA95DCD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8E7E6-F54A-44A9-A9C3-822BF8A5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DCC9C-2E77-4DC2-AA1A-ED285356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3A392-BC44-4360-8CEA-68D9834C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6C23B-B0BC-4A7A-81C2-46F2FE0C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EEA87-3F0D-4D21-B772-6CA9E8DA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873B8-769C-4DC4-A186-24C9C0FB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D2D97-87BE-4C9B-AAB0-37EAEB20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EA61B-1009-45E1-A7F5-BC074F55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e7c5c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6D85-AE05-4182-8ADD-0E661E5C986B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e7c5c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59A9-E946-4D92-9BDE-8D469244A1B1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e7c5c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09BF-B638-44FB-B124-1471527BAB3E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e7c5c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7865-0BD8-4BC0-9111-19A8C507929A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e7c5c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09B0-1F33-4A7C-9BEE-7FAF5C679225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e7c5c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3CD8-E3D0-4935-BD59-4C3FEFEB357F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e9e5d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e7c5c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2D5E-F69B-488C-8560-738334C88E33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e9e5d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e7c5c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16E1-6CF1-425E-85EF-BA2F7B2F6C96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e7c5c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8509-55CF-4D6E-82E9-03C5525E1635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538F-391A-4D7F-A433-56BE7ECAAEF9}" type="slidenum">
              <a:rPr b="0" lang="en-US" sz="16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e7c5c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477A-60C1-4755-83D4-7109492F0E3C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M6blsMhPRQ&amp;feature=related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tcapstone.wikispaces.com/" TargetMode="External"/><Relationship Id="rId2" Type="http://schemas.openxmlformats.org/officeDocument/2006/relationships/hyperlink" Target="http://stcapstone.wikispaces.com/" TargetMode="External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9e5dc"/>
                </a:solidFill>
                <a:latin typeface="Cambria"/>
              </a:rPr>
              <a:t>LEA CALVERT EVERING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9e5dc"/>
                </a:solidFill>
                <a:latin typeface="Cambria"/>
              </a:rPr>
              <a:t> </a:t>
            </a:r>
            <a:r>
              <a:rPr b="1" lang="en-US" sz="1600" spc="-1" strike="noStrike">
                <a:solidFill>
                  <a:srgbClr val="e9e5dc"/>
                </a:solidFill>
                <a:latin typeface="Cambria"/>
              </a:rPr>
              <a:t>INDIANA UNIVERSITY OF PENNSYLVANIA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34817"/>
                </a:solidFill>
                <a:latin typeface="Calibri"/>
              </a:rPr>
              <a:t>Student Teaching: The Capstone Experience</a:t>
            </a:r>
            <a:endParaRPr b="0" lang="en-US" sz="4200" spc="-1" strike="noStrike">
              <a:solidFill>
                <a:srgbClr val="8e7c5c"/>
              </a:solidFill>
              <a:latin typeface="Calibri"/>
            </a:endParaRPr>
          </a:p>
        </p:txBody>
      </p:sp>
      <p:pic>
        <p:nvPicPr>
          <p:cNvPr id="558" name="Picture 3" descr="IUP logo.jpg"/>
          <p:cNvPicPr/>
          <p:nvPr/>
        </p:nvPicPr>
        <p:blipFill>
          <a:blip r:embed="rId1"/>
          <a:stretch/>
        </p:blipFill>
        <p:spPr>
          <a:xfrm>
            <a:off x="3124080" y="3809880"/>
            <a:ext cx="2971800" cy="216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7c5c"/>
                </a:solidFill>
                <a:latin typeface="Calibri"/>
              </a:rPr>
              <a:t>Making a Difference</a:t>
            </a:r>
            <a:endParaRPr b="0" lang="en-US" sz="48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A teacher affects eternity; he can never tell where his influence stops. ” ~Henry Brooks Adams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56320" indent="-25632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9900"/>
                </a:solidFill>
                <a:uFillTx/>
                <a:latin typeface="Cambria"/>
                <a:hlinkClick r:id="rId1"/>
              </a:rPr>
              <a:t>Jaime Escalante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56320" indent="-25632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mbria"/>
              </a:rPr>
              <a:t>The Dot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56320" indent="-25632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A blast from my past: Facebook example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7c5c"/>
                </a:solidFill>
                <a:latin typeface="Calibri"/>
              </a:rPr>
              <a:t>Put your oxygen mask on first</a:t>
            </a:r>
            <a:endParaRPr b="0" lang="en-US" sz="48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Take care of yourself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A well teacher teaches well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774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9e5dc"/>
                </a:solidFill>
                <a:latin typeface="Cambria"/>
              </a:rPr>
              <a:t>Get plenty of rest</a:t>
            </a:r>
            <a:endParaRPr b="0" lang="en-US" sz="3100" spc="-1" strike="noStrike">
              <a:solidFill>
                <a:srgbClr val="e9e5dc"/>
              </a:solidFill>
              <a:latin typeface="Cambria"/>
            </a:endParaRPr>
          </a:p>
          <a:p>
            <a:pPr lvl="1" marL="547560" indent="-272880">
              <a:spcBef>
                <a:spcPts val="774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9e5dc"/>
                </a:solidFill>
                <a:latin typeface="Cambria"/>
              </a:rPr>
              <a:t>Balance work and play</a:t>
            </a:r>
            <a:endParaRPr b="0" lang="en-US" sz="3100" spc="-1" strike="noStrike">
              <a:solidFill>
                <a:srgbClr val="e9e5dc"/>
              </a:solidFill>
              <a:latin typeface="Cambria"/>
            </a:endParaRPr>
          </a:p>
          <a:p>
            <a:pPr lvl="1" marL="547560" indent="-272880">
              <a:spcBef>
                <a:spcPts val="774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9e5dc"/>
                </a:solidFill>
                <a:latin typeface="Cambria"/>
              </a:rPr>
              <a:t>Vitamins; eat well</a:t>
            </a:r>
            <a:endParaRPr b="0" lang="en-US" sz="3100" spc="-1" strike="noStrike">
              <a:solidFill>
                <a:srgbClr val="e9e5dc"/>
              </a:solidFill>
              <a:latin typeface="Cambria"/>
            </a:endParaRPr>
          </a:p>
          <a:p>
            <a:pPr lvl="1" marL="547560" indent="-272880">
              <a:spcBef>
                <a:spcPts val="774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9e5dc"/>
                </a:solidFill>
                <a:latin typeface="Cambria"/>
              </a:rPr>
              <a:t>Excercise</a:t>
            </a:r>
            <a:endParaRPr b="0" lang="en-US" sz="3100" spc="-1" strike="noStrike">
              <a:solidFill>
                <a:srgbClr val="e9e5dc"/>
              </a:solidFill>
              <a:latin typeface="Cambria"/>
            </a:endParaRPr>
          </a:p>
          <a:p>
            <a:pPr lvl="1" marL="547560" indent="-272880">
              <a:spcBef>
                <a:spcPts val="774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9e5dc"/>
                </a:solidFill>
                <a:latin typeface="Cambria"/>
              </a:rPr>
              <a:t>FREQUENT HANDWASHING!!! </a:t>
            </a:r>
            <a:endParaRPr b="0" lang="en-US" sz="3100" spc="-1" strike="noStrike">
              <a:solidFill>
                <a:srgbClr val="e9e5dc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7c5c"/>
                </a:solidFill>
                <a:latin typeface="Calibri"/>
              </a:rPr>
              <a:t>Brain Matters</a:t>
            </a:r>
            <a:endParaRPr b="0" lang="en-US" sz="48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Age + 2 minutes = maximum amount to take in before break to process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Brain is shaped by experiences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Exercise  promotes thinking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leep is a must; need downtime to process information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iming and feedback is important for reinforcemen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lf regulation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7c5c"/>
                </a:solidFill>
                <a:latin typeface="Calibri"/>
              </a:rPr>
              <a:t>Build a better brain</a:t>
            </a:r>
            <a:endParaRPr b="0" lang="en-US" sz="48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Students retain information that is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01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Cambria"/>
              </a:rPr>
              <a:t>Personally meaningful</a:t>
            </a:r>
            <a:endParaRPr b="0" lang="en-US" sz="2400" spc="-1" strike="noStrike">
              <a:solidFill>
                <a:srgbClr val="e9e5dc"/>
              </a:solidFill>
              <a:latin typeface="Cambria"/>
            </a:endParaRPr>
          </a:p>
          <a:p>
            <a:pPr lvl="1" marL="547560" indent="-272880">
              <a:spcBef>
                <a:spcPts val="601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Cambria"/>
              </a:rPr>
              <a:t>Presented with a multisensory approach</a:t>
            </a:r>
            <a:endParaRPr b="0" lang="en-US" sz="2400" spc="-1" strike="noStrike">
              <a:solidFill>
                <a:srgbClr val="e9e5dc"/>
              </a:solidFill>
              <a:latin typeface="Cambria"/>
            </a:endParaRPr>
          </a:p>
          <a:p>
            <a:pPr lvl="1" marL="547560" indent="-272880">
              <a:spcBef>
                <a:spcPts val="5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Cambria"/>
              </a:rPr>
              <a:t>Organized </a:t>
            </a:r>
            <a:r>
              <a:rPr b="0" lang="en-US" sz="2200" spc="-1" strike="noStrike">
                <a:solidFill>
                  <a:srgbClr val="e9e5dc"/>
                </a:solidFill>
                <a:latin typeface="Cambria"/>
              </a:rPr>
              <a:t>with visual representations, patterns</a:t>
            </a:r>
            <a:endParaRPr b="0" lang="en-US" sz="2200" spc="-1" strike="noStrike">
              <a:solidFill>
                <a:srgbClr val="e9e5dc"/>
              </a:solidFill>
              <a:latin typeface="Cambria"/>
            </a:endParaRPr>
          </a:p>
          <a:p>
            <a:pPr marL="272880" indent="-27288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Brain compatible learning strategies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01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Cambria"/>
              </a:rPr>
              <a:t>Novel; capture curiosity</a:t>
            </a:r>
            <a:endParaRPr b="0" lang="en-US" sz="2400" spc="-1" strike="noStrike">
              <a:solidFill>
                <a:srgbClr val="e9e5dc"/>
              </a:solidFill>
              <a:latin typeface="Cambria"/>
            </a:endParaRPr>
          </a:p>
          <a:p>
            <a:pPr lvl="1" marL="547560" indent="-272880">
              <a:spcBef>
                <a:spcPts val="601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Cambria"/>
              </a:rPr>
              <a:t>Emotion or motivation</a:t>
            </a:r>
            <a:endParaRPr b="0" lang="en-US" sz="2400" spc="-1" strike="noStrike">
              <a:solidFill>
                <a:srgbClr val="e9e5dc"/>
              </a:solidFill>
              <a:latin typeface="Cambria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Capstone Wiki</a:t>
            </a:r>
            <a:endParaRPr b="0" lang="en-US" sz="48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01320" y="1527120"/>
            <a:ext cx="85042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Hub for information and discussion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01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Cambria"/>
                <a:hlinkClick r:id="rId2"/>
              </a:rPr>
              <a:t>http://stcapstone.wikispaces.com/</a:t>
            </a:r>
            <a:endParaRPr b="0" lang="en-US" sz="2400" spc="-1" strike="noStrike">
              <a:solidFill>
                <a:srgbClr val="e9e5dc"/>
              </a:solidFill>
              <a:latin typeface="Cambria"/>
            </a:endParaRPr>
          </a:p>
          <a:p>
            <a:pPr lvl="1" marL="547560" indent="-272880">
              <a:spcBef>
                <a:spcPts val="601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Cambria"/>
              </a:rPr>
              <a:t>Links to important forms &amp; useful resources</a:t>
            </a:r>
            <a:endParaRPr b="0" lang="en-US" sz="2400" spc="-1" strike="noStrike">
              <a:solidFill>
                <a:srgbClr val="e9e5dc"/>
              </a:solidFill>
              <a:latin typeface="Cambria"/>
            </a:endParaRPr>
          </a:p>
          <a:p>
            <a:pPr lvl="1" marL="547560" indent="-272880">
              <a:spcBef>
                <a:spcPts val="601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Cambria"/>
              </a:rPr>
              <a:t>Contribute resources</a:t>
            </a:r>
            <a:endParaRPr b="0" lang="en-US" sz="2400" spc="-1" strike="noStrike">
              <a:solidFill>
                <a:srgbClr val="e9e5dc"/>
              </a:solidFill>
              <a:latin typeface="Cambria"/>
            </a:endParaRPr>
          </a:p>
          <a:p>
            <a:pPr marL="272880" indent="-272880">
              <a:spcBef>
                <a:spcPts val="7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alendar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01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Cambria"/>
              </a:rPr>
              <a:t>Keep up with due dates; we will monitor and adjust; some dates are flexible, some are not</a:t>
            </a:r>
            <a:endParaRPr b="0" lang="en-US" sz="2400" spc="-1" strike="noStrike">
              <a:solidFill>
                <a:srgbClr val="e9e5dc"/>
              </a:solidFill>
              <a:latin typeface="Cambria"/>
            </a:endParaRPr>
          </a:p>
          <a:p>
            <a:pPr marL="272880" indent="-272880">
              <a:spcBef>
                <a:spcPts val="7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Discussion thread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01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Cambria"/>
              </a:rPr>
              <a:t>Post  and discuss weekly</a:t>
            </a:r>
            <a:endParaRPr b="0" lang="en-US" sz="2400" spc="-1" strike="noStrike">
              <a:solidFill>
                <a:srgbClr val="e9e5dc"/>
              </a:solidFill>
              <a:latin typeface="Cambria"/>
            </a:endParaRPr>
          </a:p>
          <a:p>
            <a:pPr lvl="1" marL="547560" indent="-272880">
              <a:spcBef>
                <a:spcPts val="601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Cambria"/>
              </a:rPr>
              <a:t>No  limit on threads! </a:t>
            </a:r>
            <a:endParaRPr b="0" lang="en-US" sz="2400" spc="-1" strike="noStrike">
              <a:solidFill>
                <a:srgbClr val="e9e5dc"/>
              </a:solidFill>
              <a:latin typeface="Cambri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7c5c"/>
                </a:solidFill>
                <a:latin typeface="Calibri"/>
              </a:rPr>
              <a:t>Observations</a:t>
            </a:r>
            <a:endParaRPr b="0" lang="en-US" sz="48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113D-5DF6-4AA9-9202-5D5D8075FB27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Weekly schedule of teaching due each Thursday evening (see Addendum handout)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64600" indent="-26460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Lesson plans due for inspection at each visit. Use folder, not binder.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64600" indent="-26460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IUP format for all formal lessons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64600" indent="-26460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Review observation forms so you will know what to expect.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64600" indent="-26460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7c5c"/>
                </a:solidFill>
                <a:latin typeface="Calibri"/>
              </a:rPr>
              <a:t>Observation Expectations</a:t>
            </a:r>
            <a:endParaRPr b="0" lang="en-US" sz="48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3 total; 1 video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Very prepared; use notes if needed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Professional dress and demeanor; positive interactions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ear introductory activity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H.O.T. questions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5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9e5dc"/>
                </a:solidFill>
                <a:latin typeface="Cambria"/>
              </a:rPr>
              <a:t>See Bloom’s Taxonomy handout </a:t>
            </a:r>
            <a:endParaRPr b="0" lang="en-US" sz="2200" spc="-1" strike="noStrike">
              <a:solidFill>
                <a:srgbClr val="e9e5dc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Variety of participation structures over the semester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5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9e5dc"/>
                </a:solidFill>
                <a:latin typeface="Cambria"/>
              </a:rPr>
              <a:t>Not all whole class teaching</a:t>
            </a:r>
            <a:endParaRPr b="0" lang="en-US" sz="2200" spc="-1" strike="noStrike">
              <a:solidFill>
                <a:srgbClr val="e9e5dc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Wrap up/closure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7c5c"/>
                </a:solidFill>
                <a:latin typeface="Calibri"/>
              </a:rPr>
              <a:t>Feedback</a:t>
            </a:r>
            <a:endParaRPr b="0" lang="en-US" sz="48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5C7A-6915-4B37-A52A-A415BD4A70F7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Post-lesson reflection for all formally evaluated lessons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7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I will give feedback in person or via email within 24 hours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01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Cambria"/>
              </a:rPr>
              <a:t>Triplicate form or email form</a:t>
            </a:r>
            <a:endParaRPr b="0" lang="en-US" sz="2400" spc="-1" strike="noStrike">
              <a:solidFill>
                <a:srgbClr val="e9e5dc"/>
              </a:solidFill>
              <a:latin typeface="Cambria"/>
            </a:endParaRPr>
          </a:p>
          <a:p>
            <a:pPr marL="272880" indent="-272880">
              <a:spcBef>
                <a:spcPts val="7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Midterm and Final conferences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7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Always work to improve upon the last lesson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7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7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30:07Z</dcterms:created>
  <dc:creator>Lea Calvert Evering</dc:creator>
  <dc:description/>
  <dc:language>en-US</dc:language>
  <cp:lastModifiedBy>Lea Calvert Evering</cp:lastModifiedBy>
  <dcterms:modified xsi:type="dcterms:W3CDTF">2011-04-19T18:17:46Z</dcterms:modified>
  <cp:revision>2</cp:revision>
  <dc:subject/>
  <dc:title>Student Teaching: The Capstone Experience</dc:title>
</cp:coreProperties>
</file>